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D8FB-284B-4B6F-A431-3F8A630BEC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402C-2388-4CDF-B12D-515E79755F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E5B1-8941-45B8-9A73-D3EF720CD8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B497-4BFE-4384-9433-306A91E6BC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E6D4-BAA2-46C7-BA2C-8CF163DEF2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83D8-52F6-4494-8BCE-49CE7886D6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550E-5341-4E3C-974D-1F5AEC1E72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DA97-589D-4E38-9CD8-4595DA0050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60B0-3AE2-44FC-BDE6-9412D9D5C8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11D8-31B9-4B36-ACEA-C77E84D284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65F8-A9A7-4D88-80DC-5147C76BE3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0D1-AED2-4862-BDD1-A5049AFE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C25-F545-40A3-83CD-61799E08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1B2-224C-46BC-9FB6-D74FB2B9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018-3016-44AB-9349-FCA578F8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19AF-F38F-4BAD-B3D1-8DCE8502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3A0-A327-4FCB-893A-EFF58C66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E3C3-A5E6-4C2E-A5FB-D9DACC59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1E4-2205-4238-81CC-F272BA7F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9A7-543B-4D88-A36A-E9929627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5633-08FE-4905-B39D-668E5459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F217-CDA2-4C6D-A56D-B7DF5A55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87C-5377-437F-8AD8-28A7E52A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146E-0D7D-4AE6-9AD8-FBCFFF0906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ERCORSO DI FORMAZIONE PER DOCENTI </a:t>
            </a:r>
            <a:r>
              <a:rPr b="0" lang="it-IT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995720"/>
            <a:ext cx="9144000" cy="1878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Ottobre 2008 - Maggio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ahoma"/>
              </a:rPr>
              <a:t>G. Sprea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219320" y="2362320"/>
            <a:ext cx="72388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000000"/>
                </a:solidFill>
                <a:latin typeface="Tahoma"/>
              </a:rPr>
              <a:t>Istituto Omnicomprenis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000000"/>
                </a:solidFill>
                <a:latin typeface="Tahoma"/>
              </a:rPr>
              <a:t>di Arosio-Inveri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Verdana"/>
              </a:rPr>
              <a:t>4.Le risor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ott. Gerolamo Spreafico. Pedagogista - Formatore . Collabora con Cospes Milano  e con  Università Cattolica –  Facoltà di Scienze della Formazi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ott. Ivano Orofino . Counsellor -  Formatore  Direttore della Scuola per l’Infanzia  Di Nibion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f. Piercesare Rivoltella. Docente  Ordinario . Università Cattolica di Milano. Direttore CREMIT. Centro per l’Educazione ai media, informazione  e tecnologie.  E’ prevista la collaborazione di Docenti del centro Cre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ott.Massimo Guerreschi. Pedagogista - Formatore . Collabora con Cospes Milano e  Responsabile Centro Ausili L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Il punto di partenz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l tit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’idea progettua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l percor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Le risor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1.Il titol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ossiamo scegliere  tr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Verdana"/>
              </a:rPr>
              <a:t>Sviluppare benessere a Scu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Verdana"/>
              </a:rPr>
              <a:t>L’insegnante competent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Oppure decidere insieme altro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erché “ le parole sono portatrici di significato 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</a:rPr>
              <a:t>2. L’idea progettu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isione della scuola come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attinge dalla ricerca RESFOR 1 e RESFOR 2. “Una rete per il successo formativo” ( 2006/2007) cui hanno collaborato esperti  appartenenti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spes Milano . Centro di psicologia clinica ed educativa dell’Istituto Salesi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iversità Cattolica del Sacro Cuore di Milano  . Facolta’ di Scienze della Form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stituto La Nostra Famiglia . Centro Ausi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2"/>
          <p:cNvSpPr/>
          <p:nvPr/>
        </p:nvSpPr>
        <p:spPr>
          <a:xfrm>
            <a:off x="2057400" y="1295280"/>
            <a:ext cx="4572000" cy="44960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80880" y="2819520"/>
            <a:ext cx="32004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2.Didattica innovati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04920" y="380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La ricerca  Res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981080" y="1447920"/>
            <a:ext cx="449604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1.Competenze psicopedagogic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685800" y="4572000"/>
            <a:ext cx="320040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4. Alternan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cuola-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4648320" y="4495680"/>
            <a:ext cx="41148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5. Lavoro in rete all’inter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d esterno della scu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5334120" y="2819520"/>
            <a:ext cx="335268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3. Orient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1066680" y="838080"/>
            <a:ext cx="7010280" cy="5776560"/>
            <a:chOff x="1066680" y="838080"/>
            <a:chExt cx="7010280" cy="5776560"/>
          </a:xfrm>
        </p:grpSpPr>
        <p:grpSp>
          <p:nvGrpSpPr>
            <p:cNvPr id="65" name="Group 3"/>
            <p:cNvGrpSpPr/>
            <p:nvPr/>
          </p:nvGrpSpPr>
          <p:grpSpPr>
            <a:xfrm>
              <a:off x="2150640" y="1891440"/>
              <a:ext cx="4756320" cy="3640320"/>
              <a:chOff x="2150640" y="1891440"/>
              <a:chExt cx="4756320" cy="3640320"/>
            </a:xfrm>
          </p:grpSpPr>
          <p:sp>
            <p:nvSpPr>
              <p:cNvPr id="66" name="AutoShape 4"/>
              <p:cNvSpPr/>
              <p:nvPr/>
            </p:nvSpPr>
            <p:spPr>
              <a:xfrm>
                <a:off x="2324880" y="2078640"/>
                <a:ext cx="4358880" cy="3261600"/>
              </a:xfrm>
              <a:prstGeom prst="triangle">
                <a:avLst>
                  <a:gd name="adj" fmla="val 5001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Oval 5"/>
              <p:cNvSpPr/>
              <p:nvPr/>
            </p:nvSpPr>
            <p:spPr>
              <a:xfrm>
                <a:off x="2150640" y="4851720"/>
                <a:ext cx="588960" cy="6800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6"/>
              <p:cNvSpPr/>
              <p:nvPr/>
            </p:nvSpPr>
            <p:spPr>
              <a:xfrm>
                <a:off x="6318000" y="4851720"/>
                <a:ext cx="588960" cy="6800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7"/>
              <p:cNvSpPr/>
              <p:nvPr/>
            </p:nvSpPr>
            <p:spPr>
              <a:xfrm>
                <a:off x="4205880" y="1891440"/>
                <a:ext cx="588960" cy="6800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8"/>
              <p:cNvSpPr/>
              <p:nvPr/>
            </p:nvSpPr>
            <p:spPr>
              <a:xfrm>
                <a:off x="4156560" y="3569760"/>
                <a:ext cx="588960" cy="6800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e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9"/>
            <p:cNvGrpSpPr/>
            <p:nvPr/>
          </p:nvGrpSpPr>
          <p:grpSpPr>
            <a:xfrm>
              <a:off x="1066680" y="838080"/>
              <a:ext cx="7010280" cy="5776560"/>
              <a:chOff x="1066680" y="838080"/>
              <a:chExt cx="7010280" cy="5776560"/>
            </a:xfrm>
          </p:grpSpPr>
          <p:sp>
            <p:nvSpPr>
              <p:cNvPr id="72" name="Text Box 10"/>
              <p:cNvSpPr/>
              <p:nvPr/>
            </p:nvSpPr>
            <p:spPr>
              <a:xfrm>
                <a:off x="1066680" y="5552640"/>
                <a:ext cx="2776680" cy="106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Verdana"/>
                  </a:rPr>
                  <a:t>CONOSCERE-RIFLETTE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Text Box 11"/>
              <p:cNvSpPr/>
              <p:nvPr/>
            </p:nvSpPr>
            <p:spPr>
              <a:xfrm>
                <a:off x="5179680" y="5552640"/>
                <a:ext cx="2897280" cy="106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SPERIMENTARE-PROGETTARE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Text Box 12"/>
              <p:cNvSpPr/>
              <p:nvPr/>
            </p:nvSpPr>
            <p:spPr>
              <a:xfrm>
                <a:off x="2768760" y="4282560"/>
                <a:ext cx="3469680" cy="74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Verdana"/>
                  </a:rPr>
                  <a:t>ACCOMPAGNA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13"/>
              <p:cNvSpPr/>
              <p:nvPr/>
            </p:nvSpPr>
            <p:spPr>
              <a:xfrm>
                <a:off x="2162880" y="838080"/>
                <a:ext cx="4658760" cy="105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COSTRUIRE E RICOSTRUI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LA RETE INTERNA ED ESTERN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762120" y="838080"/>
            <a:ext cx="7848360" cy="4876920"/>
            <a:chOff x="762120" y="838080"/>
            <a:chExt cx="7848360" cy="4876920"/>
          </a:xfrm>
        </p:grpSpPr>
        <p:sp>
          <p:nvSpPr>
            <p:cNvPr id="77" name="Rectangle 3"/>
            <p:cNvSpPr/>
            <p:nvPr/>
          </p:nvSpPr>
          <p:spPr>
            <a:xfrm>
              <a:off x="762120" y="838080"/>
              <a:ext cx="784836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4"/>
            <p:cNvGrpSpPr/>
            <p:nvPr/>
          </p:nvGrpSpPr>
          <p:grpSpPr>
            <a:xfrm>
              <a:off x="925920" y="1005840"/>
              <a:ext cx="7653960" cy="4635360"/>
              <a:chOff x="925920" y="1005840"/>
              <a:chExt cx="7653960" cy="4635360"/>
            </a:xfrm>
          </p:grpSpPr>
          <p:grpSp>
            <p:nvGrpSpPr>
              <p:cNvPr id="79" name="Group 5"/>
              <p:cNvGrpSpPr/>
              <p:nvPr/>
            </p:nvGrpSpPr>
            <p:grpSpPr>
              <a:xfrm>
                <a:off x="925920" y="1100880"/>
                <a:ext cx="3558960" cy="4540320"/>
                <a:chOff x="925920" y="1100880"/>
                <a:chExt cx="3558960" cy="4540320"/>
              </a:xfrm>
            </p:grpSpPr>
            <p:grpSp>
              <p:nvGrpSpPr>
                <p:cNvPr id="80" name="Group 6"/>
                <p:cNvGrpSpPr/>
                <p:nvPr/>
              </p:nvGrpSpPr>
              <p:grpSpPr>
                <a:xfrm>
                  <a:off x="1165680" y="2007000"/>
                  <a:ext cx="2932200" cy="2790000"/>
                  <a:chOff x="1165680" y="2007000"/>
                  <a:chExt cx="2932200" cy="2790000"/>
                </a:xfrm>
              </p:grpSpPr>
              <p:sp>
                <p:nvSpPr>
                  <p:cNvPr id="81" name="AutoShape 7"/>
                  <p:cNvSpPr/>
                  <p:nvPr/>
                </p:nvSpPr>
                <p:spPr>
                  <a:xfrm>
                    <a:off x="1256760" y="2114280"/>
                    <a:ext cx="2841120" cy="2533680"/>
                  </a:xfrm>
                  <a:prstGeom prst="triangle">
                    <a:avLst>
                      <a:gd name="adj" fmla="val 50014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00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spcBef>
                        <a:spcPts val="1199"/>
                      </a:spcBef>
                      <a:spcAft>
                        <a:spcPts val="3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Oval 8"/>
                  <p:cNvSpPr/>
                  <p:nvPr/>
                </p:nvSpPr>
                <p:spPr>
                  <a:xfrm>
                    <a:off x="1165680" y="4284000"/>
                    <a:ext cx="372960" cy="513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b44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ff"/>
                        </a:solidFill>
                        <a:latin typeface="Tahoma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Oval 9"/>
                  <p:cNvSpPr/>
                  <p:nvPr/>
                </p:nvSpPr>
                <p:spPr>
                  <a:xfrm>
                    <a:off x="3686400" y="4268880"/>
                    <a:ext cx="384120" cy="528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b44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ff"/>
                        </a:solidFill>
                        <a:latin typeface="Tahoma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Oval 10"/>
                  <p:cNvSpPr/>
                  <p:nvPr/>
                </p:nvSpPr>
                <p:spPr>
                  <a:xfrm>
                    <a:off x="2422080" y="2007000"/>
                    <a:ext cx="383760" cy="528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b44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ff"/>
                        </a:solidFill>
                        <a:latin typeface="Tahoma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Oval 11"/>
                  <p:cNvSpPr/>
                  <p:nvPr/>
                </p:nvSpPr>
                <p:spPr>
                  <a:xfrm>
                    <a:off x="2484000" y="3384360"/>
                    <a:ext cx="383760" cy="528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b445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6000" rIns="36000" tIns="36000" bIns="360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0000"/>
                        </a:solidFill>
                        <a:latin typeface="Tahoma"/>
                      </a:rPr>
                      <a:t>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Group 12"/>
                <p:cNvGrpSpPr/>
                <p:nvPr/>
              </p:nvGrpSpPr>
              <p:grpSpPr>
                <a:xfrm>
                  <a:off x="925920" y="1100880"/>
                  <a:ext cx="3558960" cy="4540320"/>
                  <a:chOff x="925920" y="1100880"/>
                  <a:chExt cx="3558960" cy="4540320"/>
                </a:xfrm>
              </p:grpSpPr>
              <p:sp>
                <p:nvSpPr>
                  <p:cNvPr id="87" name="Text Box 13"/>
                  <p:cNvSpPr/>
                  <p:nvPr/>
                </p:nvSpPr>
                <p:spPr>
                  <a:xfrm>
                    <a:off x="925920" y="4903560"/>
                    <a:ext cx="1473840" cy="57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200" spc="-1" strike="noStrike">
                        <a:solidFill>
                          <a:srgbClr val="008000"/>
                        </a:solidFill>
                        <a:latin typeface="Verdana"/>
                      </a:rPr>
                      <a:t>CONOSCERE -RIFLETTER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Text Box 14"/>
                  <p:cNvSpPr/>
                  <p:nvPr/>
                </p:nvSpPr>
                <p:spPr>
                  <a:xfrm>
                    <a:off x="2745720" y="4914720"/>
                    <a:ext cx="1739160" cy="726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8000"/>
                        </a:solidFill>
                        <a:latin typeface="Verdana"/>
                      </a:rPr>
                      <a:t>SPERIMENTARE -PROGETTARE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Text Box 15"/>
                  <p:cNvSpPr/>
                  <p:nvPr/>
                </p:nvSpPr>
                <p:spPr>
                  <a:xfrm>
                    <a:off x="1546200" y="3814920"/>
                    <a:ext cx="2238120" cy="576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1199"/>
                      </a:spcBef>
                      <a:spcAft>
                        <a:spcPts val="3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2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ACCOMPAGNAR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Text Box 16"/>
                  <p:cNvSpPr/>
                  <p:nvPr/>
                </p:nvSpPr>
                <p:spPr>
                  <a:xfrm>
                    <a:off x="1125000" y="1100880"/>
                    <a:ext cx="2947680" cy="6678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8000"/>
                        </a:solidFill>
                        <a:latin typeface="Verdana"/>
                      </a:rPr>
                      <a:t>COSTRUIRE E RICOSTRUIR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8000"/>
                        </a:solidFill>
                        <a:latin typeface="Verdana"/>
                      </a:rPr>
                      <a:t>LA RETE INTERNA ED ESTERN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1" name="Group 17"/>
              <p:cNvGrpSpPr/>
              <p:nvPr/>
            </p:nvGrpSpPr>
            <p:grpSpPr>
              <a:xfrm>
                <a:off x="4485240" y="1005840"/>
                <a:ext cx="4094640" cy="4525200"/>
                <a:chOff x="4485240" y="1005840"/>
                <a:chExt cx="4094640" cy="4525200"/>
              </a:xfrm>
            </p:grpSpPr>
            <p:sp>
              <p:nvSpPr>
                <p:cNvPr id="92" name="AutoShape 18"/>
                <p:cNvSpPr/>
                <p:nvPr/>
              </p:nvSpPr>
              <p:spPr>
                <a:xfrm>
                  <a:off x="5072400" y="1898640"/>
                  <a:ext cx="2841120" cy="2702520"/>
                </a:xfrm>
                <a:prstGeom prst="triangle">
                  <a:avLst>
                    <a:gd name="adj" fmla="val 50014"/>
                  </a:avLst>
                </a:prstGeom>
                <a:gradFill rotWithShape="0">
                  <a:gsLst>
                    <a:gs pos="0">
                      <a:srgbClr val="dcdc87"/>
                    </a:gs>
                    <a:gs pos="100000">
                      <a:srgbClr val="ffff9d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Text Box 19"/>
                <p:cNvSpPr/>
                <p:nvPr/>
              </p:nvSpPr>
              <p:spPr>
                <a:xfrm>
                  <a:off x="4485240" y="4480200"/>
                  <a:ext cx="2020680" cy="10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16161"/>
                      </a:solidFill>
                      <a:latin typeface="Verdana"/>
                    </a:rPr>
                    <a:t>IGNORARE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16161"/>
                      </a:solidFill>
                      <a:latin typeface="Verdana"/>
                    </a:rPr>
                    <a:t>DARE PER</a:t>
                  </a:r>
                  <a:r>
                    <a:rPr b="1" lang="en-US" sz="1400" spc="-1" strike="noStrike">
                      <a:solidFill>
                        <a:srgbClr val="616161"/>
                      </a:solidFill>
                      <a:latin typeface="Times New Roman"/>
                    </a:rPr>
                    <a:t> </a:t>
                  </a:r>
                  <a:r>
                    <a:rPr b="1" lang="en-US" sz="1200" spc="-1" strike="noStrike">
                      <a:solidFill>
                        <a:srgbClr val="616161"/>
                      </a:solidFill>
                      <a:latin typeface="Verdana"/>
                    </a:rPr>
                    <a:t>SCONTATO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16161"/>
                      </a:solidFill>
                      <a:latin typeface="Verdana"/>
                    </a:rPr>
                    <a:t>CHIUSURA MENTA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Text Box 20"/>
                <p:cNvSpPr/>
                <p:nvPr/>
              </p:nvSpPr>
              <p:spPr>
                <a:xfrm>
                  <a:off x="6840360" y="4480200"/>
                  <a:ext cx="1739520" cy="102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16161"/>
                      </a:solidFill>
                      <a:latin typeface="Verdana"/>
                    </a:rPr>
                    <a:t>ESSERE INATTIVI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16161"/>
                      </a:solidFill>
                      <a:latin typeface="Verdana"/>
                    </a:rPr>
                    <a:t>CHIUSURA AL MIGLIORAMENTO CONTINU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Text Box 21"/>
                <p:cNvSpPr/>
                <p:nvPr/>
              </p:nvSpPr>
              <p:spPr>
                <a:xfrm>
                  <a:off x="5371920" y="3035520"/>
                  <a:ext cx="2261520" cy="142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99"/>
                    </a:spcBef>
                    <a:spcAft>
                      <a:spcPts val="300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616161"/>
                      </a:solidFill>
                      <a:latin typeface="Times New Roman"/>
                    </a:rPr>
                    <a:t>LASCIAR ANDARE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16161"/>
                      </a:solidFill>
                      <a:latin typeface="Tahoma"/>
                    </a:rPr>
                    <a:t>CHIUSURA A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16161"/>
                      </a:solidFill>
                      <a:latin typeface="Tahoma"/>
                    </a:rPr>
                    <a:t>BISOGNI NASCENTI E LATENT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Text Box 22"/>
                <p:cNvSpPr/>
                <p:nvPr/>
              </p:nvSpPr>
              <p:spPr>
                <a:xfrm>
                  <a:off x="5085000" y="1005840"/>
                  <a:ext cx="2850840" cy="75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16161"/>
                      </a:solidFill>
                      <a:latin typeface="Verdana"/>
                    </a:rPr>
                    <a:t>RESTARE SOLI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616161"/>
                      </a:solidFill>
                      <a:latin typeface="Verdana"/>
                    </a:rPr>
                    <a:t>CHIUSURA ALL’EST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762120" y="533520"/>
            <a:ext cx="7661160" cy="5562360"/>
            <a:chOff x="762120" y="533520"/>
            <a:chExt cx="7661160" cy="5562360"/>
          </a:xfrm>
        </p:grpSpPr>
        <p:sp>
          <p:nvSpPr>
            <p:cNvPr id="98" name="Rectangle 3"/>
            <p:cNvSpPr/>
            <p:nvPr/>
          </p:nvSpPr>
          <p:spPr>
            <a:xfrm>
              <a:off x="762120" y="533520"/>
              <a:ext cx="7661160" cy="5562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1089000" y="851400"/>
              <a:ext cx="6627600" cy="4930560"/>
              <a:chOff x="1089000" y="851400"/>
              <a:chExt cx="6627600" cy="4930560"/>
            </a:xfrm>
          </p:grpSpPr>
          <p:grpSp>
            <p:nvGrpSpPr>
              <p:cNvPr id="100" name="Group 5"/>
              <p:cNvGrpSpPr/>
              <p:nvPr/>
            </p:nvGrpSpPr>
            <p:grpSpPr>
              <a:xfrm>
                <a:off x="1089000" y="1169280"/>
                <a:ext cx="6627600" cy="4612680"/>
                <a:chOff x="1089000" y="1169280"/>
                <a:chExt cx="6627600" cy="4612680"/>
              </a:xfrm>
            </p:grpSpPr>
            <p:sp>
              <p:nvSpPr>
                <p:cNvPr id="101" name="Text Box 6"/>
                <p:cNvSpPr/>
                <p:nvPr/>
              </p:nvSpPr>
              <p:spPr>
                <a:xfrm>
                  <a:off x="4692600" y="4650120"/>
                  <a:ext cx="1510920" cy="541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SPERIMENTARE-PROGETTARE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Text Box 7"/>
                <p:cNvSpPr/>
                <p:nvPr/>
              </p:nvSpPr>
              <p:spPr>
                <a:xfrm>
                  <a:off x="1089000" y="3710880"/>
                  <a:ext cx="1359720" cy="635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CONOSCERE-RIFLETTE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Text Box 8"/>
                <p:cNvSpPr/>
                <p:nvPr/>
              </p:nvSpPr>
              <p:spPr>
                <a:xfrm>
                  <a:off x="1834560" y="1709640"/>
                  <a:ext cx="1728360" cy="981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COSTRUIRE E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RICOSTRUIR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LA RETE INTERNA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Verdana"/>
                    </a:rPr>
                    <a:t>ED ESTER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AutoShape 9"/>
                <p:cNvSpPr/>
                <p:nvPr/>
              </p:nvSpPr>
              <p:spPr>
                <a:xfrm>
                  <a:off x="2097720" y="2073600"/>
                  <a:ext cx="3520800" cy="2454120"/>
                </a:xfrm>
                <a:prstGeom prst="triangle">
                  <a:avLst>
                    <a:gd name="adj" fmla="val 50014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1199"/>
                    </a:spcBef>
                    <a:spcAft>
                      <a:spcPts val="300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Oval 10"/>
                <p:cNvSpPr/>
                <p:nvPr/>
              </p:nvSpPr>
              <p:spPr>
                <a:xfrm>
                  <a:off x="2059920" y="4239360"/>
                  <a:ext cx="378000" cy="407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Oval 11"/>
                <p:cNvSpPr/>
                <p:nvPr/>
              </p:nvSpPr>
              <p:spPr>
                <a:xfrm>
                  <a:off x="5261040" y="4259160"/>
                  <a:ext cx="379080" cy="40716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Oval 12"/>
                <p:cNvSpPr/>
                <p:nvPr/>
              </p:nvSpPr>
              <p:spPr>
                <a:xfrm>
                  <a:off x="3663000" y="1908360"/>
                  <a:ext cx="378360" cy="40680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Oval 13"/>
                <p:cNvSpPr/>
                <p:nvPr/>
              </p:nvSpPr>
              <p:spPr>
                <a:xfrm>
                  <a:off x="3640320" y="3188520"/>
                  <a:ext cx="378360" cy="40608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e2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Text Box 14"/>
                <p:cNvSpPr/>
                <p:nvPr/>
              </p:nvSpPr>
              <p:spPr>
                <a:xfrm>
                  <a:off x="2979720" y="3577680"/>
                  <a:ext cx="203796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99"/>
                    </a:spcBef>
                    <a:spcAft>
                      <a:spcPts val="300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000000"/>
                      </a:solidFill>
                      <a:latin typeface="Arial"/>
                    </a:rPr>
                    <a:t>ACCOMPAGNA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WordArt 15"/>
                <p:cNvSpPr txBox="1"/>
                <p:nvPr/>
              </p:nvSpPr>
              <p:spPr>
                <a:xfrm rot="19791000">
                  <a:off x="4073760" y="1756080"/>
                  <a:ext cx="1614240" cy="287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CascadeUp">
                    <a:avLst>
                      <a:gd name="adj" fmla="val 44444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8000"/>
                        </a:solidFill>
                        <a:miter/>
                      </a:ln>
                      <a:solidFill>
                        <a:srgbClr val="008000"/>
                      </a:solidFill>
                      <a:latin typeface="Tahoma"/>
                    </a:rPr>
                    <a:t>lavoro in rete</a:t>
                  </a:r>
                  <a:endParaRPr b="0" lang="en-US" sz="2400" spc="1" strike="noStrike">
                    <a:ln w="9360">
                      <a:solidFill>
                        <a:srgbClr val="008000"/>
                      </a:solidFill>
                      <a:miter/>
                    </a:ln>
                    <a:solidFill>
                      <a:srgbClr val="008000"/>
                    </a:solidFill>
                    <a:latin typeface="Tahoma"/>
                    <a:ea typeface="Tahoma"/>
                  </a:endParaRPr>
                </a:p>
              </p:txBody>
            </p:sp>
            <p:sp>
              <p:nvSpPr>
                <p:cNvPr id="111" name="WordArt 16"/>
                <p:cNvSpPr txBox="1"/>
                <p:nvPr/>
              </p:nvSpPr>
              <p:spPr>
                <a:xfrm rot="19322400">
                  <a:off x="4187520" y="1828800"/>
                  <a:ext cx="2243160" cy="287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CascadeUp">
                    <a:avLst>
                      <a:gd name="adj" fmla="val 44444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8000"/>
                        </a:solidFill>
                        <a:miter/>
                      </a:ln>
                      <a:solidFill>
                        <a:srgbClr val="008000"/>
                      </a:solidFill>
                      <a:latin typeface="Tahoma"/>
                    </a:rPr>
                    <a:t>alternanza scuola-lavoro</a:t>
                  </a:r>
                  <a:endParaRPr b="0" lang="en-US" sz="2400" spc="1" strike="noStrike">
                    <a:ln w="9360">
                      <a:solidFill>
                        <a:srgbClr val="008000"/>
                      </a:solidFill>
                      <a:miter/>
                    </a:ln>
                    <a:solidFill>
                      <a:srgbClr val="008000"/>
                    </a:solidFill>
                    <a:latin typeface="Tahoma"/>
                    <a:ea typeface="Tahoma"/>
                  </a:endParaRPr>
                </a:p>
              </p:txBody>
            </p:sp>
            <p:sp>
              <p:nvSpPr>
                <p:cNvPr id="112" name="WordArt 17"/>
                <p:cNvSpPr txBox="1"/>
                <p:nvPr/>
              </p:nvSpPr>
              <p:spPr>
                <a:xfrm rot="19092600">
                  <a:off x="4520880" y="2358000"/>
                  <a:ext cx="1582560" cy="288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CascadeUp">
                    <a:avLst>
                      <a:gd name="adj" fmla="val 44444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8000"/>
                        </a:solidFill>
                        <a:miter/>
                      </a:ln>
                      <a:solidFill>
                        <a:srgbClr val="008000"/>
                      </a:solidFill>
                      <a:latin typeface="Tahoma"/>
                    </a:rPr>
                    <a:t>orientamento</a:t>
                  </a:r>
                  <a:endParaRPr b="0" lang="en-US" sz="2400" spc="1" strike="noStrike">
                    <a:ln w="9360">
                      <a:solidFill>
                        <a:srgbClr val="008000"/>
                      </a:solidFill>
                      <a:miter/>
                    </a:ln>
                    <a:solidFill>
                      <a:srgbClr val="008000"/>
                    </a:solidFill>
                    <a:latin typeface="Tahoma"/>
                    <a:ea typeface="Tahoma"/>
                  </a:endParaRPr>
                </a:p>
              </p:txBody>
            </p:sp>
            <p:sp>
              <p:nvSpPr>
                <p:cNvPr id="113" name="WordArt 18"/>
                <p:cNvSpPr txBox="1"/>
                <p:nvPr/>
              </p:nvSpPr>
              <p:spPr>
                <a:xfrm rot="18658800">
                  <a:off x="4570920" y="2568600"/>
                  <a:ext cx="2022480" cy="2520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CascadeUp">
                    <a:avLst>
                      <a:gd name="adj" fmla="val 44444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8000"/>
                        </a:solidFill>
                        <a:miter/>
                      </a:ln>
                      <a:solidFill>
                        <a:srgbClr val="008000"/>
                      </a:solidFill>
                      <a:latin typeface="Tahoma"/>
                    </a:rPr>
                    <a:t>didattiche innovative</a:t>
                  </a:r>
                  <a:endParaRPr b="0" lang="en-US" sz="2400" spc="1" strike="noStrike">
                    <a:ln w="9360">
                      <a:solidFill>
                        <a:srgbClr val="008000"/>
                      </a:solidFill>
                      <a:miter/>
                    </a:ln>
                    <a:solidFill>
                      <a:srgbClr val="008000"/>
                    </a:solidFill>
                    <a:latin typeface="Tahoma"/>
                    <a:ea typeface="Tahoma"/>
                  </a:endParaRPr>
                </a:p>
              </p:txBody>
            </p:sp>
            <p:sp>
              <p:nvSpPr>
                <p:cNvPr id="114" name="WordArt 19"/>
                <p:cNvSpPr txBox="1"/>
                <p:nvPr/>
              </p:nvSpPr>
              <p:spPr>
                <a:xfrm rot="18268800">
                  <a:off x="4881240" y="2853000"/>
                  <a:ext cx="1964880" cy="472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CascadeUp">
                    <a:avLst>
                      <a:gd name="adj" fmla="val 44444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8000"/>
                        </a:solidFill>
                        <a:miter/>
                      </a:ln>
                      <a:solidFill>
                        <a:srgbClr val="008000"/>
                      </a:solidFill>
                      <a:latin typeface="Tahoma"/>
                    </a:rPr>
                    <a:t>competenze</a:t>
                  </a:r>
                  <a:endParaRPr b="0" lang="en-US" sz="2400" spc="1" strike="noStrike">
                    <a:ln w="9360">
                      <a:solidFill>
                        <a:srgbClr val="008000"/>
                      </a:solidFill>
                      <a:miter/>
                    </a:ln>
                    <a:solidFill>
                      <a:srgbClr val="008000"/>
                    </a:solidFill>
                    <a:latin typeface="Tahoma"/>
                    <a:ea typeface="Tahoma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8000"/>
                        </a:solidFill>
                        <a:miter/>
                      </a:ln>
                      <a:solidFill>
                        <a:srgbClr val="008000"/>
                      </a:solidFill>
                      <a:latin typeface="Tahoma"/>
                    </a:rPr>
                    <a:t>psicopedagogiche</a:t>
                  </a:r>
                  <a:endParaRPr b="0" lang="en-US" sz="2400" spc="1" strike="noStrike">
                    <a:ln w="9360">
                      <a:solidFill>
                        <a:srgbClr val="008000"/>
                      </a:solidFill>
                      <a:miter/>
                    </a:ln>
                    <a:solidFill>
                      <a:srgbClr val="008000"/>
                    </a:solidFill>
                    <a:latin typeface="Tahoma"/>
                    <a:ea typeface="Tahoma"/>
                  </a:endParaRPr>
                </a:p>
              </p:txBody>
            </p:sp>
            <p:grpSp>
              <p:nvGrpSpPr>
                <p:cNvPr id="115" name="Group 20"/>
                <p:cNvGrpSpPr/>
                <p:nvPr/>
              </p:nvGrpSpPr>
              <p:grpSpPr>
                <a:xfrm>
                  <a:off x="6169680" y="2543040"/>
                  <a:ext cx="1546920" cy="1545120"/>
                  <a:chOff x="6169680" y="2543040"/>
                  <a:chExt cx="1546920" cy="1545120"/>
                </a:xfrm>
              </p:grpSpPr>
              <p:sp>
                <p:nvSpPr>
                  <p:cNvPr id="116" name="AutoShape 21"/>
                  <p:cNvSpPr/>
                  <p:nvPr/>
                </p:nvSpPr>
                <p:spPr>
                  <a:xfrm flipH="1">
                    <a:off x="6330240" y="2543040"/>
                    <a:ext cx="747720" cy="806400"/>
                  </a:xfrm>
                  <a:prstGeom prst="pi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Text Box 22"/>
                  <p:cNvSpPr/>
                  <p:nvPr/>
                </p:nvSpPr>
                <p:spPr>
                  <a:xfrm>
                    <a:off x="6169680" y="3282840"/>
                    <a:ext cx="1546920" cy="805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RESFOR 1: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spcAft>
                        <a:spcPts val="6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GLI ELEMENTI CHIAV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" name="Group 23"/>
                <p:cNvGrpSpPr/>
                <p:nvPr/>
              </p:nvGrpSpPr>
              <p:grpSpPr>
                <a:xfrm>
                  <a:off x="2348280" y="4433760"/>
                  <a:ext cx="2952360" cy="1348200"/>
                  <a:chOff x="2348280" y="4433760"/>
                  <a:chExt cx="2952360" cy="1348200"/>
                </a:xfrm>
              </p:grpSpPr>
              <p:sp>
                <p:nvSpPr>
                  <p:cNvPr id="119" name="AutoShape 24"/>
                  <p:cNvSpPr/>
                  <p:nvPr/>
                </p:nvSpPr>
                <p:spPr>
                  <a:xfrm>
                    <a:off x="3673080" y="4433760"/>
                    <a:ext cx="341280" cy="769320"/>
                  </a:xfrm>
                  <a:prstGeom prst="upArrow">
                    <a:avLst>
                      <a:gd name="adj1" fmla="val 50000"/>
                      <a:gd name="adj2" fmla="val 56355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Text Box 25"/>
                  <p:cNvSpPr/>
                  <p:nvPr/>
                </p:nvSpPr>
                <p:spPr>
                  <a:xfrm>
                    <a:off x="2348280" y="5204160"/>
                    <a:ext cx="2952360" cy="577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RESFOR 2: LE AZIONI CON/SUGLI ELEMENTI CHIAV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" name="Group 26"/>
              <p:cNvGrpSpPr/>
              <p:nvPr/>
            </p:nvGrpSpPr>
            <p:grpSpPr>
              <a:xfrm>
                <a:off x="2623320" y="851400"/>
                <a:ext cx="4025880" cy="3009600"/>
                <a:chOff x="2623320" y="851400"/>
                <a:chExt cx="4025880" cy="3009600"/>
              </a:xfrm>
            </p:grpSpPr>
            <p:sp>
              <p:nvSpPr>
                <p:cNvPr id="122" name="Line 27"/>
                <p:cNvSpPr/>
                <p:nvPr/>
              </p:nvSpPr>
              <p:spPr>
                <a:xfrm flipV="1">
                  <a:off x="4248720" y="851400"/>
                  <a:ext cx="2066400" cy="176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28"/>
                <p:cNvSpPr/>
                <p:nvPr/>
              </p:nvSpPr>
              <p:spPr>
                <a:xfrm flipH="1">
                  <a:off x="3506040" y="2612520"/>
                  <a:ext cx="75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29"/>
                <p:cNvSpPr/>
                <p:nvPr/>
              </p:nvSpPr>
              <p:spPr>
                <a:xfrm flipV="1">
                  <a:off x="4556160" y="1045440"/>
                  <a:ext cx="1844280" cy="1965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30"/>
                <p:cNvSpPr/>
                <p:nvPr/>
              </p:nvSpPr>
              <p:spPr>
                <a:xfrm flipH="1">
                  <a:off x="3168720" y="3036240"/>
                  <a:ext cx="135828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31"/>
                <p:cNvSpPr/>
                <p:nvPr/>
              </p:nvSpPr>
              <p:spPr>
                <a:xfrm flipV="1">
                  <a:off x="4811040" y="1148400"/>
                  <a:ext cx="1737000" cy="225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32"/>
                <p:cNvSpPr/>
                <p:nvPr/>
              </p:nvSpPr>
              <p:spPr>
                <a:xfrm flipH="1">
                  <a:off x="2925360" y="3420360"/>
                  <a:ext cx="1892160" cy="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33"/>
                <p:cNvSpPr/>
                <p:nvPr/>
              </p:nvSpPr>
              <p:spPr>
                <a:xfrm flipV="1">
                  <a:off x="5136120" y="1252800"/>
                  <a:ext cx="1513080" cy="2588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34"/>
                <p:cNvSpPr/>
                <p:nvPr/>
              </p:nvSpPr>
              <p:spPr>
                <a:xfrm flipH="1">
                  <a:off x="2623320" y="3857400"/>
                  <a:ext cx="2507400" cy="3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838080" y="2286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3. Il percor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La didattica tradizionale e le didattiche  attive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Come operare a diverse velocità e con differenti strumenti 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Gli stili cognitivi individu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2.     Le origini del Cooperative Learning e la presentazione di alcune esperienze di succes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Avviare un percorso di formazione  per  acquisire la metodologia dell’ Cooperative Learn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3.    Laboratorio per unità di apprendimento di area  linguistica e delle comunic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Laboratorio per unità di apprendimento di area matematica  scientifi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4.    I  media   e gli strumenti informatici nella didatt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76560" y="11430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docente esperto di sistemi .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La scuola  e la rete dei servizi socio – educativi . Restituire alla scuola la regia di   questa rete .   Come leggere questo sistema  e come agire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2.    Il docente esperto di gruppi di lavoro :Il gruppo di lavoro nella scuola  dell’infanzia e primar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Il gruppo di lavoro  nella scuola secondaria di primo gr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3.       Il docente  educatore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Nelle problematiche dell’età evolutiva  e all’interno della famiglia .Nelle problematiche della preadolescenza e adolescenza e nei contesti di   socializz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4.      La relazione tra i nuovi media  e l’educ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7"/>
          <p:cNvSpPr/>
          <p:nvPr/>
        </p:nvSpPr>
        <p:spPr>
          <a:xfrm>
            <a:off x="457200" y="762120"/>
            <a:ext cx="4038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PONENTE DIDAT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8"/>
          <p:cNvSpPr/>
          <p:nvPr/>
        </p:nvSpPr>
        <p:spPr>
          <a:xfrm>
            <a:off x="4876920" y="762120"/>
            <a:ext cx="41148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PONENTE PEDAG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6:07:24Z</dcterms:created>
  <dc:creator>mino</dc:creator>
  <dc:description/>
  <dc:language>en-US</dc:language>
  <cp:lastModifiedBy>XXX</cp:lastModifiedBy>
  <dcterms:modified xsi:type="dcterms:W3CDTF">2010-09-08T16:17:59Z</dcterms:modified>
  <cp:revision>5</cp:revision>
  <dc:subject/>
  <dc:title>PowerPoint Presentation</dc:title>
</cp:coreProperties>
</file>