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EB9AE-6582-4B90-BA44-293F8E64A5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D0785-DD1B-4237-9CB1-7212491456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7A49E-54E4-43D6-A552-88CB1E4241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2631E-B993-4586-844C-E2FE1D29D8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DE342-7A56-4300-B2E7-F537EC13F6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7C95C-D194-4DA1-8B1C-9297C595F5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0F36A-E479-4325-8F4F-1BCB13A1CC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C86A2-C9E8-420E-BCB4-DD40335B8A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FB339-38B8-4396-BCBF-FB3E7F966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994DD-D587-4588-9DF5-86FAEBB169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856DA-2AFD-4166-AB31-ED16300FE7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4E378-5FA7-436A-917D-7665137F2A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0"/>
            <a:ext cx="87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GLI AUSILI INFORMATICI ED ELETTRONICI – Lecco, 20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371600" y="533520"/>
            <a:ext cx="7696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295280" y="152280"/>
            <a:ext cx="830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RSO FORMAZIONE  ISTITUTO C0MPRENSIVO DI AROSIO -INVERI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434340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FF39-4BDD-424E-9E0F-419C9D36C711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10280" y="647712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000000"/>
                </a:solidFill>
                <a:latin typeface="Verdana"/>
              </a:rPr>
              <a:t>G.SPREAF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entury Gothic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2590920"/>
            <a:ext cx="8610480" cy="2438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762120"/>
            <a:ext cx="7924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etodi e tecniche del lavoro di grup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95480" y="5261040"/>
            <a:ext cx="3429000" cy="453960"/>
          </a:xfrm>
          <a:prstGeom prst="rect">
            <a:avLst/>
          </a:prstGeom>
          <a:noFill/>
          <a:ln cap="rnd" w="64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ità  n°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16002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rof. Gerolamo Sprea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3321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L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GRUPPO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PER  COSTRUIRE CONOSCENZA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INSIEM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533520"/>
            <a:ext cx="7696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152280"/>
            <a:ext cx="77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RSO  FORMAZIONE ISTITUTO COMPRENSIVO DI AROSIO-INVERI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53080" y="61722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G.SPREAF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47920" y="609480"/>
            <a:ext cx="7010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 Gothic"/>
              </a:rPr>
              <a:t>TEORI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 Gothic"/>
              </a:rPr>
              <a:t>Piaget.Gli stadi evolutivi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 Gothic"/>
              </a:rPr>
              <a:t>1.</a:t>
            </a:r>
            <a:r>
              <a:rPr b="1" i="1" lang="it-IT" sz="2400" spc="-1" strike="noStrike">
                <a:solidFill>
                  <a:srgbClr val="000000"/>
                </a:solidFill>
                <a:latin typeface="Century Gothic"/>
              </a:rPr>
              <a:t>Periodo sensomotorio.</a:t>
            </a:r>
            <a:r>
              <a:rPr b="1" lang="it-IT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( dalla nascita a 2 anni circa ). Il bambino comprende il mondo limitatamente alle azioni fisiche che egli esercita direttamente su diesso . Attraverso una serie di fasi , egli si muove dall’uso di semplici riflessi a un insieme di schemi organizzati( comportamenti organizzati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00054-EDDB-4773-A4B0-2BA613C7CC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47920" y="609480"/>
            <a:ext cx="7010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 Gothic"/>
              </a:rPr>
              <a:t>TEORI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 Gothic"/>
              </a:rPr>
              <a:t>Piaget.Gli stadi evolutivi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 Gothic"/>
              </a:rPr>
              <a:t>2.</a:t>
            </a:r>
            <a:r>
              <a:rPr b="1" i="1" lang="it-IT" sz="2400" spc="-1" strike="noStrike">
                <a:solidFill>
                  <a:srgbClr val="000000"/>
                </a:solidFill>
                <a:latin typeface="Century Gothic"/>
              </a:rPr>
              <a:t>Periodo preoperazionale .</a:t>
            </a:r>
            <a:r>
              <a:rPr b="1" lang="it-IT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( da 2 a 7 anni circa).  Il bambino non compie più solo semplici aggiustamenti percettivi e motori  su oggetti  ed eventi . Egli ora può usare simboli ( immagini mentali , aprole , gesti) per rappresentare oggetti ed evnti . Usa questi simboli in modo via via più organizz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FD257-B772-4FC4-AB1B-7F1CF9EF39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609480"/>
            <a:ext cx="7010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 Gothic"/>
              </a:rPr>
              <a:t>TEORI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 Gothic"/>
              </a:rPr>
              <a:t>Piaget.Gli stadi evolutivi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 Gothic"/>
              </a:rPr>
              <a:t>3. </a:t>
            </a:r>
            <a:r>
              <a:rPr b="1" i="1" lang="it-IT" sz="2400" spc="-1" strike="noStrike">
                <a:solidFill>
                  <a:srgbClr val="000000"/>
                </a:solidFill>
                <a:latin typeface="Century Gothic"/>
              </a:rPr>
              <a:t>Periodo operatorio concreto.</a:t>
            </a:r>
            <a:r>
              <a:rPr b="1" lang="it-IT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( da 7 a 11 anni circa ). Il bambino  acqusisce certe strtture  logioche che gli permettono di compiere varie operazioni mentali , cioè azioni interiorizzate  che possono essere reversibi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07563-020F-4DB7-B4EA-E27E47CE66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47920" y="609480"/>
            <a:ext cx="7010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 Gothic"/>
              </a:rPr>
              <a:t>TEORI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 Gothic"/>
              </a:rPr>
              <a:t>Piaget.Gli stadi evolutivi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 Gothic"/>
              </a:rPr>
              <a:t>4.</a:t>
            </a:r>
            <a:r>
              <a:rPr b="1" i="1" lang="it-IT" sz="2400" spc="-1" strike="noStrike">
                <a:solidFill>
                  <a:srgbClr val="000000"/>
                </a:solidFill>
                <a:latin typeface="Century Gothic"/>
              </a:rPr>
              <a:t>Periodo  delle operazioni formali sensomotorio.</a:t>
            </a:r>
            <a:r>
              <a:rPr b="1" lang="it-IT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( d 11 a 15 anni circa). Le operazioni mentali non sono più limitate a oggetti concreti ; esse possono essere applicate ad affermazioni puramente  verbali o logiche , al possibile come al reale , al futuro  come al pres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24DFE-B428-4727-8005-A55FC943B8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47920" y="609480"/>
            <a:ext cx="7010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 Gothic"/>
              </a:rPr>
              <a:t>TEORI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4479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Winnicot. Mente e affet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A6A6A-88F7-47EC-9FBB-2A7AB330E0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Verdana"/>
              </a:rPr>
              <a:t>3. Il Gruppo  come risorsa pedagogica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C71A2-E5F7-4C78-AB61-00127E71BC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295280" y="1066680"/>
          <a:ext cx="6629400" cy="4972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066680"/>
                    <a:ext cx="6629400" cy="49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38C98-12CB-49BE-AFC4-AD57D7A68B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92360" y="623880"/>
            <a:ext cx="5757840" cy="57578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3127680"/>
            <a:ext cx="5639040" cy="581400"/>
          </a:xfrm>
          <a:prstGeom prst="rect">
            <a:avLst/>
          </a:prstGeom>
          <a:noFill/>
          <a:ln cap="rnd" w="9360">
            <a:solidFill>
              <a:srgbClr val="ff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cclaim"/>
              </a:rPr>
              <a:t>Istruzione/Apprendi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6000" y="914400"/>
            <a:ext cx="4735440" cy="36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6900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cc"/>
                </a:solidFill>
                <a:latin typeface="Acclaim"/>
              </a:rPr>
              <a:t>Gestione della classe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cc"/>
              </a:solidFill>
              <a:latin typeface="Acclaim"/>
              <a:ea typeface="Acclaim"/>
            </a:endParaRPr>
          </a:p>
        </p:txBody>
      </p:sp>
      <p:sp>
        <p:nvSpPr>
          <p:cNvPr id="125" name=""/>
          <p:cNvSpPr txBox="1"/>
          <p:nvPr/>
        </p:nvSpPr>
        <p:spPr>
          <a:xfrm rot="10800000">
            <a:off x="2209320" y="2438280"/>
            <a:ext cx="4735800" cy="360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6900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cc"/>
                </a:solidFill>
                <a:latin typeface="Acclaim"/>
              </a:rPr>
              <a:t>Gestione della classe</a:t>
            </a:r>
            <a:endParaRPr b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cc"/>
              </a:solidFill>
              <a:latin typeface="Acclaim"/>
              <a:ea typeface="Acclaim"/>
            </a:endParaRPr>
          </a:p>
        </p:txBody>
      </p:sp>
      <p:sp>
        <p:nvSpPr>
          <p:cNvPr id="126" name=""/>
          <p:cNvSpPr/>
          <p:nvPr/>
        </p:nvSpPr>
        <p:spPr>
          <a:xfrm rot="14320200">
            <a:off x="2839680" y="1778040"/>
            <a:ext cx="1665360" cy="792000"/>
          </a:xfrm>
          <a:prstGeom prst="rightArrow">
            <a:avLst>
              <a:gd name="adj1" fmla="val 76556"/>
              <a:gd name="adj2" fmla="val 36768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7978400">
            <a:off x="4495320" y="1704600"/>
            <a:ext cx="1665360" cy="792000"/>
          </a:xfrm>
          <a:prstGeom prst="rightArrow">
            <a:avLst>
              <a:gd name="adj1" fmla="val 76556"/>
              <a:gd name="adj2" fmla="val 36768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8401400">
            <a:off x="2911320" y="4370400"/>
            <a:ext cx="1665360" cy="792360"/>
          </a:xfrm>
          <a:prstGeom prst="rightArrow">
            <a:avLst>
              <a:gd name="adj1" fmla="val 76556"/>
              <a:gd name="adj2" fmla="val 36752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4115000">
            <a:off x="4565520" y="4330800"/>
            <a:ext cx="1757520" cy="792000"/>
          </a:xfrm>
          <a:prstGeom prst="rightArrow">
            <a:avLst>
              <a:gd name="adj1" fmla="val 76556"/>
              <a:gd name="adj2" fmla="val 38803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F4DBD-73D3-46B2-84D0-740B0C35AA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692360" y="623880"/>
            <a:ext cx="5757840" cy="575784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79640" y="282492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cclaim"/>
              </a:rPr>
              <a:t>Appprendiment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cclaim"/>
              </a:rPr>
              <a:t>centrato sullo stud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12920" y="836640"/>
            <a:ext cx="4735440" cy="36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6900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latin typeface="Acclaim"/>
              </a:rPr>
              <a:t>Gestione della classe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latin typeface="Acclaim"/>
              <a:ea typeface="Acclaim"/>
            </a:endParaRPr>
          </a:p>
        </p:txBody>
      </p:sp>
      <p:sp>
        <p:nvSpPr>
          <p:cNvPr id="133" name=""/>
          <p:cNvSpPr txBox="1"/>
          <p:nvPr/>
        </p:nvSpPr>
        <p:spPr>
          <a:xfrm rot="10800000">
            <a:off x="2203560" y="2565000"/>
            <a:ext cx="4735440" cy="36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6900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00"/>
                </a:solidFill>
                <a:latin typeface="Acclaim"/>
              </a:rPr>
              <a:t>Gestione della classe</a:t>
            </a:r>
            <a:endParaRPr b="1" lang="en-US" sz="3200" spc="1" strike="noStrike">
              <a:ln w="0">
                <a:noFill/>
              </a:ln>
              <a:solidFill>
                <a:srgbClr val="000000"/>
              </a:solidFill>
              <a:latin typeface="Acclaim"/>
              <a:ea typeface="Acclaim"/>
            </a:endParaRPr>
          </a:p>
        </p:txBody>
      </p:sp>
      <p:sp>
        <p:nvSpPr>
          <p:cNvPr id="134" name=""/>
          <p:cNvSpPr/>
          <p:nvPr/>
        </p:nvSpPr>
        <p:spPr>
          <a:xfrm rot="14320200">
            <a:off x="2870640" y="1717560"/>
            <a:ext cx="1530360" cy="792360"/>
          </a:xfrm>
          <a:prstGeom prst="rightArrow">
            <a:avLst>
              <a:gd name="adj1" fmla="val 76556"/>
              <a:gd name="adj2" fmla="val 33773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7978400">
            <a:off x="4531320" y="1681560"/>
            <a:ext cx="1616040" cy="792000"/>
          </a:xfrm>
          <a:prstGeom prst="rightArrow">
            <a:avLst>
              <a:gd name="adj1" fmla="val 76556"/>
              <a:gd name="adj2" fmla="val 3568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8401400">
            <a:off x="2911320" y="4370400"/>
            <a:ext cx="1665360" cy="792360"/>
          </a:xfrm>
          <a:prstGeom prst="rightArrow">
            <a:avLst>
              <a:gd name="adj1" fmla="val 76556"/>
              <a:gd name="adj2" fmla="val 36752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4115000">
            <a:off x="4565520" y="4330800"/>
            <a:ext cx="1757520" cy="792000"/>
          </a:xfrm>
          <a:prstGeom prst="rightArrow">
            <a:avLst>
              <a:gd name="adj1" fmla="val 76556"/>
              <a:gd name="adj2" fmla="val 38803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E8E89-56F6-49CF-BD09-1B696E89DA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14400" y="3429000"/>
            <a:ext cx="73454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prospettiva da cui considerare la classe è quella che ha al centro lo studente e non l’insegnante. L’insegnante e gli studenti condividono la responsabilità di iniziare e guidare gli sforzi di apprendimento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75280" y="1341360"/>
            <a:ext cx="792000" cy="792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claim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2706120"/>
            <a:ext cx="7777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conoscenza è costruita dagli studenti.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47326-082A-4259-831B-B805700288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entury Gothic"/>
              </a:rPr>
              <a:t>Le grandi cose hanno piccoli inizi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 Gothic"/>
              </a:rPr>
              <a:t>                                    </a:t>
            </a:r>
            <a:r>
              <a:rPr b="0" i="1" lang="it-IT" sz="2400" spc="-1" strike="noStrike">
                <a:solidFill>
                  <a:srgbClr val="000000"/>
                </a:solidFill>
                <a:latin typeface="Century Gothic"/>
              </a:rPr>
              <a:t>( Sir Francis Drake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entury Gothic"/>
              </a:rPr>
              <a:t>Niente di nuovo  che sia realmente interessante nasce senza collaborazione</a:t>
            </a:r>
            <a:r>
              <a:rPr b="0" lang="it-IT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entury Gothic"/>
              </a:rPr>
              <a:t>(James Watson , Premio Nobel –co-scopritore del DNA 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84520-7AC1-43C8-8490-ABA882AB0D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114800" y="762120"/>
            <a:ext cx="792000" cy="792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claim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74560" y="1969560"/>
            <a:ext cx="7993080" cy="3690720"/>
            <a:chOff x="574560" y="1969560"/>
            <a:chExt cx="7993080" cy="3690720"/>
          </a:xfrm>
        </p:grpSpPr>
        <p:sp>
          <p:nvSpPr>
            <p:cNvPr id="143" name=""/>
            <p:cNvSpPr/>
            <p:nvPr/>
          </p:nvSpPr>
          <p:spPr>
            <a:xfrm>
              <a:off x="574560" y="4103280"/>
              <a:ext cx="7993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La metafora che meglio descrive l’insegnante è quella di un direttore di orchestra e non quella di un manager d’azienda che controlla gli studenti suoi dipendenti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5640" y="1969560"/>
              <a:ext cx="7777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L’insegnante agisce come leader che pone interrogativi, cerca chiarificazioni, promuove il dialogo, aiuta il gruppo a riconoscere aree di consenso e di continuo disaccordo.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A6A6F-89BA-466D-BDC4-96CC5B3FE2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00000" y="4581360"/>
            <a:ext cx="7344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prospettiva migliore da cui considerare la gestione della classe è quella preventiva e non quella correttiva o costrit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75280" y="620640"/>
            <a:ext cx="792000" cy="792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cclaim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5640" y="2174040"/>
            <a:ext cx="80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 attività esaltano le applicazioni a problemi autentici e a problemi che richiedono una riflessione di alto livello. Gli studenti collaborano agendo come una comunità che apprende, che costruisce comprensioni condivise attraverso il dialogo prolunga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0ADA2-6C3C-4759-8256-E91BDC2D3A6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9343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Verdana"/>
              </a:rPr>
              <a:t>3. 1 Introduzione 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Il fondamento  da cui prende avvio questo percorso  è l’apprendimento cooperativo o  “cooperative learning. “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Perché  conoscere e  sperimentare  l’apprendimento cooperativo 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Una serie di ricerche hanno preso in esame l’apprendimento cooperativo, competitivo e individualistico  ( Johnson e Johnson) valutando 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Impegno e motivazione nel lavoro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Relazioni interpersonali costruttive e positiv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Benessere psicologico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22798-D77A-4942-90A0-1DE0A8C57B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68580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Verdana"/>
              </a:rPr>
              <a:t>3. 1 Introduzione 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 Gothic"/>
              </a:rPr>
              <a:t>La cooperazione , a confronto dell’impostazione del lavoro competitivo e individualistico  permette di ottenere questi risultati 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entury Gothic"/>
              </a:rPr>
              <a:t>Gli studenti ottengono risultati migliori</a:t>
            </a: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: tutti gli studenti con alta. Media,e bassa capacità di apprendimento , lavorano di più , sviluppano una maggiore motivazione intrinseca, passano più tempo sul compito e sviluppano livelli superiori di ragionamento e capacità di pensiero critico 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2CB5C-E6D0-45D6-B0EB-6BBE2294C9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Verdana"/>
              </a:rPr>
              <a:t>3. 1 Introduzione 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 Gothic"/>
              </a:rPr>
              <a:t>2.</a:t>
            </a: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it-IT" sz="2400" spc="-1" strike="noStrike">
                <a:solidFill>
                  <a:srgbClr val="000000"/>
                </a:solidFill>
                <a:latin typeface="Century Gothic"/>
              </a:rPr>
              <a:t>Relazioni più positive tra gli studenti</a:t>
            </a: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 : si creano uno spirito  di squadra e rapporti di amicizia e sostegno reciproco , sia personale che scolastico ;la diversità viene rispettata e apprezzata e il gruppo si affiata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entury Gothic"/>
              </a:rPr>
              <a:t>3. Maggiore benessere psicologico</a:t>
            </a: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 :l’adattamento psicologico degli studenti  è migliore , così come il loro senso di autoefficacia,l’autostima e l’immagine di sé ; gli studenti sviluppano competenze sociali e una maggiore capacità di affrontare le difficoltà e lo stres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5977C-4361-4969-83D5-607E72EF312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3.2 Cosa è l’apprendimento cooperativo</a:t>
            </a: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Co-operare significa lavorare insieme per raggiungere obiettivi comuni .All’interno di situazioni cooperative l’individuo singolo cerca di perseguire dei risultati  che vanno a vantaggio suo e di tutti i collaboratori 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L’apprendimento cooperativo è un metodo didattico che utilizza piccoli gruppi in cui gli studenti lavorano insieme  per migliorare reciprocamente  il loro apprendimento 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Si distingue dall’apprendimento competitivo ( gli studenti lavorano uno contro l’altro  per raggiungere un giudizio migliore  ), che da quello individualistico ( gli studenti lavorano  da soli per raggiungere obiettivi di apprendimento  indipendenti da quelli degli altri studenti )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293D2-CF9E-48B6-8CE1-84EA7D111E9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7617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3.2 Cosa è l’apprendimento cooperativo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 Gothic"/>
              </a:rPr>
              <a:t>L’apprendimento cooperativo può essere applicato ad ogni compito , materia, curriculo 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entury Gothic"/>
              </a:rPr>
              <a:t>Lo schema  dell a.c.  È  il seguente 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 Gothic"/>
              </a:rPr>
              <a:t>Prendere  decisioni preliminari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 Gothic"/>
              </a:rPr>
              <a:t>Spiegare  il compito  e l’approccio cooperativo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 Gothic"/>
              </a:rPr>
              <a:t>Controllare  e intervenir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 Gothic"/>
              </a:rPr>
              <a:t>Verificare e valutar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3934A-2175-4DAD-8524-528162799DD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3.3 tipi di gruppo di apprendimento cooperativo</a:t>
            </a:r>
            <a:r>
              <a:rPr b="0" lang="it-IT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 Gothic"/>
              </a:rPr>
              <a:t>Gruppi formali</a:t>
            </a: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 : la cui durata va da una lezione ad alcune settiman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 Gothic"/>
              </a:rPr>
              <a:t>Gruppi informali</a:t>
            </a: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: gruppi ad hoc la cui durata va da pochi minuti  al tempo di una lezione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 Gothic"/>
              </a:rPr>
              <a:t>Gruppi di  base</a:t>
            </a: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 : gruppi eterogenei  a lungo termine ( durata almeno un anno ) con membri stabili 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E3C43-9C48-4804-A61C-E0898AAE8B5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3880" y="60948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3.4  il ruolo dell’insegnante nell’apprendimento cooperativo</a:t>
            </a:r>
            <a:r>
              <a:rPr b="0" lang="it-IT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entury Gothic"/>
              </a:rPr>
              <a:t>3.4.1. Prendere decisioni preliminari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definire gli obiettivi in termini di abilità scolastiche e sociali 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Decidere le dimensioni dei gruppi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Decidere la composizione del gruppo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Assegnare ruoli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Sistemare l’aul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Organizzare i materiali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EF5CF-92BA-45DD-8A41-58EA268EBE7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523880" y="60948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3.4  il ruolo dell’insegnante nell’apprendimento cooperativo</a:t>
            </a:r>
            <a:r>
              <a:rPr b="0" lang="it-IT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entury Gothic"/>
              </a:rPr>
              <a:t>3.4.2. Spiegare il compito e l’approccio cooperativ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Spiegare il comp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Piegare i criteri di valuta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Strutturare l’interdipendenza posi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Strutturare la cooperazione intergrup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Strutturare la responsabilità individual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Insegnare le abilità socia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EEDDA-399E-4DAA-BC8E-09B238E4D07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3520" y="1981080"/>
            <a:ext cx="83055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Quali sono le ragioni che  inducono un insegnante ad approfondire la conoscenza del 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grupp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per favorire processi di insegnamento / apprendimento  . Le tradizioni , i cambiamenti , le tenden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struzione di una mappa di concetti utile per applicare le conoscenze relative al 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gruppo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l Gruppo come risorsa pedagogica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l gruppo e le didattiche innovative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resentazione di casi  e  analisi di autocasi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8380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CONTENUTI DEL COR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D1B47-A8EE-456F-AE22-45DE727037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23880" y="60948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3.4  il ruolo dell’insegnante nell’apprendimento cooperativo</a:t>
            </a:r>
            <a:r>
              <a:rPr b="0" lang="it-IT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entury Gothic"/>
              </a:rPr>
              <a:t>3.4.3. Monitorare e intervenir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Favorire l’interazione costruttiva diret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Monitorare il comportamento degli stude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Intervenire per migliorare il lavoro del gruppo e sul comp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Chiudere la le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94E50-FC7A-4499-BF3A-BEFBA3FEF0B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23880" y="60948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3.4  il ruolo dell’insegnante nell’apprendimento cooperativo</a:t>
            </a:r>
            <a:r>
              <a:rPr b="0" lang="it-IT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entury Gothic"/>
              </a:rPr>
              <a:t>3.4.4.  Verifica e valutazi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Valutare l’apprendimento degli stud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Valutare il funzionamento dei grup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29B7E-BDE1-4996-AEE0-11A66813E04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3880" y="6854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3. 5 Come avviare una attività di apprendimento cooperativo 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Per partire in modo graduale il suggerimento è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Condurre una lezione cooperativa , esplicitando l’uso della nuova metodologi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Valutarne l’efficacia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Riflettere sulle possibilità di strutturarla meglio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Valutare l’efficacia e proseguire 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AC87A-1F0C-422F-AB2B-403E358B889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3.6. Che tipo di gruppo sto usando</a:t>
            </a:r>
            <a:r>
              <a:rPr b="0" lang="it-IT" sz="1800" spc="-1" strike="noStrike">
                <a:solidFill>
                  <a:srgbClr val="000000"/>
                </a:solidFill>
                <a:latin typeface="Century Gothic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Cosa è e cosa non è un gruppo di apprendimento cooperativo . Esistono alcune gradazioni 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29920" indent="-52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 Gothic"/>
              </a:rPr>
              <a:t>Pseudogruppo di apprendimento</a:t>
            </a: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. Gli studenti devono lavorare insieme ma non hanno alcun interesse a farlo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29920" indent="-52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 Gothic"/>
              </a:rPr>
              <a:t>Gruppo tradizionale di apprendimento</a:t>
            </a: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 : gli studenti devono lavorare insieme accettano di farlo, . I compiti però sono strutturati in un modo che richieda poco lavoro in comune 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29920" indent="-52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 Gothic"/>
              </a:rPr>
              <a:t>Gruppo di apprendimento cooperativo:</a:t>
            </a: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 gli studenti devono lavorare insieme e sono felici di farlo . Sanno che il loro successo dipende dallo sforzo congiunto del gruppo . Ci sono in questo caso 5 caratteristiche 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AACA6-D443-457D-AA98-09F2EDEE469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entury Gothic"/>
              </a:rPr>
              <a:t>Primo </a:t>
            </a: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: l’obiettivo comune  di massimizzare l’apprendimento di tutti i membri stimola  gli studenti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entury Gothic"/>
              </a:rPr>
              <a:t>Secondo</a:t>
            </a:r>
            <a:r>
              <a:rPr b="0" i="1" lang="it-IT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: gli studenti ritengono se stessi e gli altri  ugualmente responsabili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entury Gothic"/>
              </a:rPr>
              <a:t>Terzo</a:t>
            </a:r>
            <a:r>
              <a:rPr b="1" lang="it-IT" sz="2400" spc="-1" strike="noStrike">
                <a:solidFill>
                  <a:srgbClr val="000000"/>
                </a:solidFill>
                <a:latin typeface="Century Gothic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I membri lavorano e producono insiem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entury Gothic"/>
              </a:rPr>
              <a:t>Quarto</a:t>
            </a: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 : vengono insegnate loro le abilità sociali di cui devono fare uso per coordinare i loro sforzi e raggiungere i loro obiettivi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entury Gothic"/>
              </a:rPr>
              <a:t>Quinto:</a:t>
            </a: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 i gruppi valutano e autovalutano se gli obiettivi sono stati raggiunti 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8DEB0-66A1-4BE2-9A3C-5F45B8AA6B2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4. </a:t>
            </a:r>
            <a:r>
              <a:rPr b="1" lang="it-IT" sz="2400" spc="-1" strike="noStrike">
                <a:solidFill>
                  <a:srgbClr val="000000"/>
                </a:solidFill>
                <a:latin typeface="Century Gothic"/>
              </a:rPr>
              <a:t>Gruppo di apprendimento cooperativo</a:t>
            </a: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 ad alto </a:t>
            </a:r>
            <a:r>
              <a:rPr b="1" lang="it-IT" sz="2400" spc="-1" strike="noStrike">
                <a:solidFill>
                  <a:srgbClr val="000000"/>
                </a:solidFill>
                <a:latin typeface="Century Gothic"/>
              </a:rPr>
              <a:t>rendimento </a:t>
            </a: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. Oltre a raggiungere risultati eccellenti ci si diverte e si prende a cura ogni membro 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123F1-6E44-480E-848A-AC8D516F15C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38080" y="12952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1905120"/>
            <a:ext cx="7162920" cy="3860640"/>
          </a:xfrm>
          <a:custGeom>
            <a:avLst/>
            <a:gdLst/>
            <a:ahLst/>
            <a:rect l="l" t="t" r="r" b="b"/>
            <a:pathLst>
              <a:path w="4512" h="2432">
                <a:moveTo>
                  <a:pt x="0" y="1608"/>
                </a:moveTo>
                <a:cubicBezTo>
                  <a:pt x="224" y="2012"/>
                  <a:pt x="448" y="2416"/>
                  <a:pt x="720" y="2424"/>
                </a:cubicBezTo>
                <a:cubicBezTo>
                  <a:pt x="992" y="2432"/>
                  <a:pt x="1312" y="2016"/>
                  <a:pt x="1632" y="1656"/>
                </a:cubicBezTo>
                <a:cubicBezTo>
                  <a:pt x="1952" y="1296"/>
                  <a:pt x="2264" y="528"/>
                  <a:pt x="2640" y="264"/>
                </a:cubicBezTo>
                <a:cubicBezTo>
                  <a:pt x="3016" y="0"/>
                  <a:pt x="3592" y="64"/>
                  <a:pt x="3888" y="72"/>
                </a:cubicBezTo>
                <a:cubicBezTo>
                  <a:pt x="4184" y="80"/>
                  <a:pt x="4320" y="264"/>
                  <a:pt x="4416" y="312"/>
                </a:cubicBezTo>
                <a:cubicBezTo>
                  <a:pt x="4512" y="360"/>
                  <a:pt x="4488" y="360"/>
                  <a:pt x="4464" y="36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85800" y="1447920"/>
            <a:ext cx="0" cy="487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6324480"/>
            <a:ext cx="784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594360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Efficacia del grup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21337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Livello di prest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4191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ngoli stud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81952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Gruppo di apprendimento cooper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33920" y="4343400"/>
            <a:ext cx="350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Gruppo tradizionale di apprend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34320" y="25146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Gruppo ad alto rendim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586728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seudogruppo di apprend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457200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57600" y="449568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304812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72400" y="220968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314080" y="5679000"/>
            <a:ext cx="17640" cy="227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1D383-D61A-4E2D-B60B-4F4C25EF1BB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90360" y="914040"/>
            <a:ext cx="7391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1.   Quali sono le ragioni che  inducono un insegnante ad approfondire la conoscenza del 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grupp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per favorire processi di insegnamento / apprendimento  . Le tradizioni , i cambiamenti , le tendenze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F4CD8-BB36-4B96-ABE2-9DB6B00E6D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1.   Quali sono le ragioni.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Una scuola centrata sulll’ insegnamento   cambia  verso una scuola centrata sull’apprendimento 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Una maggiore richiesta di abilità sociali a fronte di saperi assoluti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Una maggior efficacia di strategie  collaborative nel campo dell’educazione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Una maggiore continuità tra educazione formale , informale e non formale 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Una necessaria  relazione tra scuola –famiglia-servizi 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0F705-AD07-48A1-9CC9-DD531039DA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2. </a:t>
            </a: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Costruzione di una mappa di concetti utile per applicare le conoscenze relative al gruppo 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362320"/>
            <a:ext cx="3124080" cy="99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E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3733920"/>
            <a:ext cx="3276720" cy="99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NCETTI   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MODEL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2743200"/>
            <a:ext cx="3047760" cy="990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RATIC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1752480"/>
            <a:ext cx="3048120" cy="990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ENDEN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9084800">
            <a:off x="1537920" y="3222720"/>
            <a:ext cx="457200" cy="733320"/>
          </a:xfrm>
          <a:prstGeom prst="downArrow">
            <a:avLst>
              <a:gd name="adj1" fmla="val 50000"/>
              <a:gd name="adj2" fmla="val 400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4231400">
            <a:off x="4862520" y="3595680"/>
            <a:ext cx="457200" cy="733680"/>
          </a:xfrm>
          <a:prstGeom prst="downArrow">
            <a:avLst>
              <a:gd name="adj1" fmla="val 50000"/>
              <a:gd name="adj2" fmla="val 4011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4343600">
            <a:off x="7224480" y="2528640"/>
            <a:ext cx="457200" cy="733320"/>
          </a:xfrm>
          <a:prstGeom prst="downArrow">
            <a:avLst>
              <a:gd name="adj1" fmla="val 50000"/>
              <a:gd name="adj2" fmla="val 400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BC9D3-520B-4CD9-B38E-EE16BB809D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entury Gothic"/>
              </a:rPr>
              <a:t>2. </a:t>
            </a: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Costruzione di una mappa di concetti utile per applicare le conoscenze relative al gruppo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09480" y="1981080"/>
          <a:ext cx="7848720" cy="4480200"/>
        </p:xfrm>
        <a:graphic>
          <a:graphicData uri="http://schemas.openxmlformats.org/drawingml/2006/table">
            <a:tbl>
              <a:tblPr/>
              <a:tblGrid>
                <a:gridCol w="1962360"/>
                <a:gridCol w="1962000"/>
                <a:gridCol w="1962360"/>
                <a:gridCol w="1962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OR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ATICH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NDENZ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rché una teoria dello svilupp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iaget.Gli stadi evoluti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innicot. Mente e affett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rikson e gli stadi psicosociali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ossedere uno schem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ducare   o insegnar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dagogia e didattica</a:t>
                      </a: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pprendimento cooperativ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l gioc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 bambini e la rete inter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a rete di bambin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12C9A-7ED9-404D-B57D-D96B2E56B5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560" y="6094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 Gothic"/>
              </a:rPr>
              <a:t>TEORI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 Gothic"/>
              </a:rPr>
              <a:t>Perché una teoria dello sviluppo ?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Una teoria dello sviluppo  aiuta a descrivere cambiamenti nel tempo ponendo in relazione comportamenti  o aspetti di attività psicologica entro un’area dello sviluppo  e idealmnete fra diverse aree dello sviluppo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Una teoria dello sviluppo tenta di considerare il fatto  che ci sono cambiamenti simultanei nel pensiero , nella personalità, nella pecezione 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3F4E8-A269-4D68-9FEC-F543AB5D91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609480"/>
            <a:ext cx="7010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 Gothic"/>
              </a:rPr>
              <a:t>TEORI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 Gothic"/>
              </a:rPr>
              <a:t>Piaget.Gli stadi evolutivi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Secondo Piaget  il bambino passa attraverso una serie di  stadi dello sviluppo cognitivo .  Per comprendere ciascuno stadio , abbiamo bisogno di sapere non solo da dove viene , ma anche dove sta andando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Ogni stadio continete i frutti del passato e contiente i semi del futuro . Le età di riferimento indicate sono approssimative , in quanto i bambini variano entro certi limiti  rispetto all’età in cui progrediscono attraverso gli stad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8F21F-B573-4722-8E1F-0B9D7ECB39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08:48:37Z</dcterms:created>
  <dc:creator>gmarchetti</dc:creator>
  <dc:description/>
  <dc:language>en-US</dc:language>
  <cp:lastModifiedBy>mino</cp:lastModifiedBy>
  <dcterms:modified xsi:type="dcterms:W3CDTF">2009-01-13T14:49:41Z</dcterms:modified>
  <cp:revision>174</cp:revision>
  <dc:subject/>
  <dc:title>Presentazione di PowerPoint</dc:title>
</cp:coreProperties>
</file>