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D3B-5DF4-436C-9B44-8288F5EE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C03-3D9B-425C-AA05-E2562CB2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F55-6702-4EF8-B12B-794895FE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75F-4DAF-48A7-A445-F950B4BB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915-614E-4932-B920-5B38A544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0AD-58B9-44EB-A409-0CD88B05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0A1-7250-46C4-A9C7-1698AB42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CBA-8289-4FDB-9C50-7A9C79B4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E29-E9B9-4E1C-87BC-8FCECF15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A2C-C8BE-4BBA-8033-132BCAB2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F242-2AFC-42A1-9A6B-31250912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9C1-4BF8-49EF-B26C-DDADF951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E4E3-2D78-4B1E-975C-4B131474D4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2819520"/>
            <a:ext cx="3505320" cy="121896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Didattica Innovati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Innovazione della didat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9874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posta continuam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l Ruolo del doc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1240" y="990720"/>
            <a:ext cx="272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Favorisce l’emers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ei Saperi Ufficiosi e d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noscenza Prossi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0440" y="99072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ttiva gli studenti: d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ntenuto alle strate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7600" y="469260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nsol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utost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07560" y="4815000"/>
            <a:ext cx="21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Evita Saperi pass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83920" y="4616280"/>
            <a:ext cx="16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timola d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telligen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819520"/>
            <a:ext cx="200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nsidera l’err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me guida 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pprendere 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pprend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9440" y="304812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inforza ass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i Responsabi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171880"/>
            <a:ext cx="3886200" cy="799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31621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stiene la Fat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 Apprende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14400" y="4152960"/>
            <a:ext cx="2809800" cy="799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30129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pone Sfi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datti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91320" y="2133720"/>
            <a:ext cx="2895480" cy="799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31621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bbatte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stanza fra ruol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638680" y="4152960"/>
            <a:ext cx="3276720" cy="723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29754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mette scambi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 emo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SA VUOL DIRE DIDATTICA INNOVATIV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808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Vuol dire scegliere i materiali, scegliere i contenuti  ma soprattutto scegliere i modi con cui </a:t>
            </a:r>
            <a:r>
              <a:rPr b="1" lang="it-IT" sz="1800" spc="-1" strike="noStrike">
                <a:solidFill>
                  <a:srgbClr val="ff3300"/>
                </a:solidFill>
                <a:latin typeface="Times New Roman"/>
              </a:rPr>
              <a:t>animarl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, con cui </a:t>
            </a:r>
            <a:r>
              <a:rPr b="1" lang="it-IT" sz="1800" spc="-1" strike="noStrike">
                <a:solidFill>
                  <a:srgbClr val="00ff00"/>
                </a:solidFill>
                <a:latin typeface="Times New Roman"/>
              </a:rPr>
              <a:t>rendere attivo ed interattivo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l’apprendimento usando in modo domin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600200"/>
          <a:ext cx="8686800" cy="5138640"/>
        </p:xfrm>
        <a:graphic>
          <a:graphicData uri="http://schemas.openxmlformats.org/drawingml/2006/table">
            <a:tbl>
              <a:tblPr/>
              <a:tblGrid>
                <a:gridCol w="1768320"/>
                <a:gridCol w="4305600"/>
                <a:gridCol w="2612880"/>
              </a:tblGrid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OD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EMP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odi per Scoperta ed Esperienzi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gnando stimoli su cui lavorare o  elementi incompleti che vanno collegati, manipolati, organizzati…o momenti dove agire e fare in aula o in laborato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i materiali che vi lascio dovete astrarre 2 principi chiave, su essi dovrete realizzare una storia inventata che li metta a confro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gna di dati-informazioni che si concludono con una domanda o un’ulteriore informazione da scoprire o cercare di raggiung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 canzone di… appena ascoltata esprime le stesse emozioni dell’autore, trova le somiglian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ccio Cooperativo e Costrut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ilizzo di modalità di lavoro composte, continuando a variare da compiti individuali, a coppia, a piccolo gruppo per poi ritornare all’individuo; la conoscenza viene costruita collettivamente per passi di azione e inter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rivi cosa sai di…; Confrontati con due compagni; costruite una linea comune di risoluzione; discussione fra i gruppi in plena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ccio Rifles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re domande che non chiedono un dato-informazione ma che hanno lo scopo di aiutare a pensare, di fare confronti, di riflettere sul proprio atteggi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rimi la tua opinione…secondo te quali vantaggi ci sono…tu che cosa puoi imparare da questo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roccio Strate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ndo momenti dove analizziamo i passi e le strategie usate per portare a termine un compito, cercando di rintracciare tutte quelle utili e quelle più effica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 hai fatto ad arrivare alla soluzione ? Come hai composto il tuo riassunto ?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OPERATIVITA’ DELLA DIDATTICA INNOV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280" y="1298520"/>
          <a:ext cx="8839440" cy="5025960"/>
        </p:xfrm>
        <a:graphic>
          <a:graphicData uri="http://schemas.openxmlformats.org/drawingml/2006/table">
            <a:tbl>
              <a:tblPr/>
              <a:tblGrid>
                <a:gridCol w="2514600"/>
                <a:gridCol w="6324840"/>
              </a:tblGrid>
              <a:tr h="55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PI PRIORIT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RTAM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vorisce l’emersione dei Saperi Ufficiosi e della Conoscenza Prossimal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nforza assunzione di Responsabilit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ola diverse intelligenz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olida Autosti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OPERATIVITA’ DELLA DIDATTICA INNOV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52280" y="1247760"/>
          <a:ext cx="8839440" cy="5381640"/>
        </p:xfrm>
        <a:graphic>
          <a:graphicData uri="http://schemas.openxmlformats.org/drawingml/2006/table">
            <a:tbl>
              <a:tblPr/>
              <a:tblGrid>
                <a:gridCol w="2514600"/>
                <a:gridCol w="632484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PI PRIORIT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RTAM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iva gli studenti: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l contenuto alle strategie; Considera l’errore come guida per Apprendere ad Apprende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sta continuamente il Ruolo del docen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 il setting a seconda di quanto vuole crea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2280" y="609480"/>
          <a:ext cx="8839440" cy="6132600"/>
        </p:xfrm>
        <a:graphic>
          <a:graphicData uri="http://schemas.openxmlformats.org/drawingml/2006/table">
            <a:tbl>
              <a:tblPr/>
              <a:tblGrid>
                <a:gridCol w="2514600"/>
                <a:gridCol w="632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PI PRIORIT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ORTAM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iva gli studenti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l contenuto alle strategie; Considera l’errore come guida per Apprendere ad Apprend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gna a loro delle fasi della lezione; Chiede di esplicitare “come” è stato raggiunto un lavoro per comprendere l’utilità delle strategie usate; Agevola confronto fra le diverse strategie degli allievi; cerca di capire la sequenza delle operazioni mentali svolte e\o delle lacune presenti per apprendere dall’errore quanto più possib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sta continuamente il Ruolo del doc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iega; Introduce uno Stimolo; Facilita discussione; Chiarisce; Predispone Contesto di Apprendimento; Aiuta ad approfondire; Agevola autonomia-autoformazione; chiede loro opinioni; incoraggia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 il setting a seconda di quanto vuole cre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spone “zone studio” all’interno della classe secondo modalità differenti: individuo, coppia, piccolo gruppo, plenaria. Ogni fase modifica il setting e si passa dall’una all’altra modalità nella stessa le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vorisce l’emersione dei Saperi Ufficiosi e della Conoscenza Prossi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ede cosa sanno di argomenti “nuovi”; Fa domande aperte; cerca di accedere alla conoscenza “grezza” degli allievi e da li costruisce le lezioni per agganciare i saperi “lavorati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nforza assunzione di Responsabili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pena è possibile condivide con loro le difficoltà collettive (sia nelle prestazioni che nel clima della classe o con se stessi) fino a tracciare nuovi percorsi didattici e relazion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mola diverse intelligen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 riflettere; fa fare; fa organizzare; fa esprimere; usa suoni, immagini, colori, corporeità; chiede connessioni, originalità, criticità, emozioni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olida Autosti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serva e Restituisce ogni miglioramento anche se lieve; predispone strumenti allo scopo di rendere più evidente ciò che c’è di posi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975240" y="152280"/>
            <a:ext cx="71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PERATIVITA’ DELLA DIDATTICA INNOV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o</cp:lastModifiedBy>
  <dcterms:modified xsi:type="dcterms:W3CDTF">2008-11-18T07:41:06Z</dcterms:modified>
  <cp:revision>4</cp:revision>
  <dc:subject/>
  <dc:title>PowerPoint Presentation</dc:title>
</cp:coreProperties>
</file>