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4802-8E0E-449D-ACEE-3EB5D5DD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95A8-675E-469E-93B9-502CD307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4FDD-84C7-483F-A704-A0EB8F54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8049-41A3-4593-AFD4-1786858F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1C29-BACA-45C3-92DC-63B5CA2F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6C49-1DF4-4C89-827C-3725FB0E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7170-DC18-499A-8024-C27B9898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2ACB-0B0D-4EE6-B3CA-5058B67C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A5D9-E8D5-4C97-8EFF-79512C24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6CB1-CE7E-4F30-B32A-D0B92740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09EA-F9E1-4E76-870D-02A68912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BCD9-46BB-497C-96A7-4A3D156E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D42C-3DBF-43DA-A377-016017E3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80E5-703B-4E7A-94AA-1946822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3F1D-D784-43D1-B582-D2C8C1B6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A568-90F8-439E-9C05-BD7782E8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42F9-1855-4C27-B24E-0082F803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EA1A-77AF-4609-BDB6-17754A1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FE24-9502-4C1E-BF9C-77C68870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35FFB-B4F8-48F5-90BE-7D8D8886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0FA9-75FF-4145-85AF-29E9DBF6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FA095-0021-47FD-86DE-C4282ABE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A0F2-4882-4068-80AC-7F05DE96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B3C6-C9EE-4DBA-9392-095D6A1F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8a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c4f6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8ab8e7"/>
                  </a:gs>
                  <a:gs pos="50000">
                    <a:srgbClr val="99ccff"/>
                  </a:gs>
                  <a:gs pos="100000">
                    <a:srgbClr val="8ab8e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7570-2997-482C-8A95-798E7743374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6D8-B0AF-4868-AF5C-AEF7228863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0" y="0"/>
            <a:ext cx="9144000" cy="1044720"/>
            <a:chOff x="0" y="0"/>
            <a:chExt cx="9144000" cy="1044720"/>
          </a:xfrm>
        </p:grpSpPr>
        <p:grpSp>
          <p:nvGrpSpPr>
            <p:cNvPr id="155" name=""/>
            <p:cNvGrpSpPr/>
            <p:nvPr/>
          </p:nvGrpSpPr>
          <p:grpSpPr>
            <a:xfrm>
              <a:off x="6227640" y="0"/>
              <a:ext cx="2916360" cy="1008000"/>
              <a:chOff x="6227640" y="0"/>
              <a:chExt cx="2916360" cy="10080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86560" y="0"/>
                <a:ext cx="36972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6227640" y="504720"/>
                <a:ext cx="291636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99"/>
                    </a:solidFill>
                    <a:latin typeface="Arial"/>
                  </a:rPr>
                  <a:t>PROVINCIA DI COMO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99"/>
                    </a:solidFill>
                    <a:latin typeface="Verdana"/>
                  </a:rPr>
                  <a:t>ASSESSORATO ISTRUZIONE e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99"/>
                    </a:solidFill>
                    <a:latin typeface="Verdana"/>
                  </a:rPr>
                  <a:t>ASSESSORATO  FORMAZIONE PROFESSIONALE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0" y="0"/>
              <a:ext cx="3241800" cy="1044720"/>
              <a:chOff x="0" y="0"/>
              <a:chExt cx="3241800" cy="1044720"/>
            </a:xfrm>
          </p:grpSpPr>
          <p:pic>
            <p:nvPicPr>
              <p:cNvPr id="1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00" y="0"/>
                <a:ext cx="432000" cy="41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0" y="432000"/>
                <a:ext cx="3241800" cy="61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99"/>
                  </a:spcBef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3399"/>
                    </a:solidFill>
                    <a:latin typeface="Verdana"/>
                  </a:rPr>
                  <a:t>Ministero dell'istruzione, dell'università e della ricerca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99"/>
                  </a:spcBef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99"/>
                    </a:solidFill>
                    <a:latin typeface="Verdana"/>
                  </a:rPr>
                  <a:t>USR Lombardia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99"/>
                  </a:spcBef>
                  <a:spcAft>
                    <a:spcPts val="7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333399"/>
                    </a:solidFill>
                    <a:latin typeface="Verdana"/>
                  </a:rPr>
                  <a:t>Ufficio Scolastico Territoriale di Como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Tahoma"/>
              </a:rPr>
              <a:t>Como  Ufficio Autonomia:</a:t>
            </a:r>
            <a:r>
              <a:rPr b="1" lang="en-US" sz="9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i="1" lang="en-US" sz="900" spc="-1" strike="noStrike">
                <a:solidFill>
                  <a:srgbClr val="333399"/>
                </a:solidFill>
                <a:latin typeface="Tahoma"/>
              </a:rPr>
              <a:t>D. Diacci</a:t>
            </a:r>
            <a:r>
              <a:rPr b="1" i="1" lang="en-US" sz="9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8a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1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3c4f6"/>
                  </a:gs>
                  <a:gs pos="100000">
                    <a:srgbClr val="99cc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8ab8e7"/>
                  </a:gs>
                  <a:gs pos="50000">
                    <a:srgbClr val="99ccff"/>
                  </a:gs>
                  <a:gs pos="100000">
                    <a:srgbClr val="8ab8e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8D89-78A2-4B93-B51F-88A5E1C616F3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DAC1-E9A4-4472-9043-0A6947A9D4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66680" y="4800600"/>
            <a:ext cx="1361520" cy="1685520"/>
            <a:chOff x="166680" y="4800600"/>
            <a:chExt cx="1361520" cy="1685520"/>
          </a:xfrm>
        </p:grpSpPr>
        <p:sp>
          <p:nvSpPr>
            <p:cNvPr id="390" name=""/>
            <p:cNvSpPr txBox="1"/>
            <p:nvPr/>
          </p:nvSpPr>
          <p:spPr>
            <a:xfrm rot="20367000">
              <a:off x="370800" y="5398560"/>
              <a:ext cx="1135080" cy="28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20644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6600"/>
                    </a:solidFill>
                    <a:miter/>
                  </a:ln>
                  <a:solidFill>
                    <a:srgbClr val="ff6600"/>
                  </a:solidFill>
                  <a:effectLst>
                    <a:outerShdw dist="53966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Times New Roman"/>
                </a:rPr>
                <a:t>ORIENTAMENTO</a:t>
              </a:r>
              <a:endParaRPr b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ccff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166680" y="4800600"/>
              <a:ext cx="1361520" cy="1685520"/>
              <a:chOff x="166680" y="4800600"/>
              <a:chExt cx="1361520" cy="1685520"/>
            </a:xfrm>
          </p:grpSpPr>
          <p:sp>
            <p:nvSpPr>
              <p:cNvPr id="392" name=""/>
              <p:cNvSpPr txBox="1"/>
              <p:nvPr/>
            </p:nvSpPr>
            <p:spPr>
              <a:xfrm rot="20594400">
                <a:off x="178920" y="5078160"/>
                <a:ext cx="898200" cy="219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Down">
                  <a:avLst>
                    <a:gd name="adj" fmla="val 458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ff00"/>
                      </a:solidFill>
                      <a:miter/>
                    </a:ln>
                    <a:solidFill>
                      <a:srgbClr val="66ff33"/>
                    </a:solidFill>
                    <a:effectLst>
                      <a:outerShdw dist="53966" dir="2700000" blurRad="0" rotWithShape="0">
                        <a:srgbClr val="99ccff">
                          <a:alpha val="80000"/>
                        </a:srgbClr>
                      </a:outerShdw>
                    </a:effectLst>
                    <a:latin typeface="Times New Roman"/>
                  </a:rPr>
                  <a:t>TERRITORIO</a:t>
                </a:r>
                <a:endParaRPr b="1" lang="en-US" sz="1800" spc="1" strike="noStrike">
                  <a:ln w="9360">
                    <a:solidFill>
                      <a:srgbClr val="00ff00"/>
                    </a:solidFill>
                    <a:miter/>
                  </a:ln>
                  <a:solidFill>
                    <a:srgbClr val="66ff33"/>
                  </a:solidFill>
                  <a:effectLst>
                    <a:outerShdw dist="53966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 rot="20091000">
                <a:off x="474480" y="5898960"/>
                <a:ext cx="1019160" cy="388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5633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ffff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53966" dir="2700000" blurRad="0" rotWithShape="0">
                        <a:srgbClr val="99ccff">
                          <a:alpha val="80000"/>
                        </a:srgbClr>
                      </a:outerShdw>
                    </a:effectLst>
                    <a:latin typeface="Times New Roman"/>
                  </a:rPr>
                  <a:t>QUALITA'</a:t>
                </a:r>
                <a:endParaRPr b="1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53966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 rot="4553400">
                <a:off x="0" y="5472720"/>
                <a:ext cx="1511280" cy="160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000080"/>
                    </a:solidFill>
                    <a:effectLst>
                      <a:outerShdw dist="53966" dir="2700000" blurRad="0" rotWithShape="0">
                        <a:srgbClr val="99ccff">
                          <a:alpha val="80000"/>
                        </a:srgbClr>
                      </a:outerShdw>
                    </a:effectLst>
                    <a:latin typeface="Times New Roman"/>
                  </a:rPr>
                  <a:t>AUTONOMIA</a:t>
                </a:r>
                <a:endParaRPr b="1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53966" dir="2700000" blurRad="0" rotWithShape="0">
                      <a:srgbClr val="99ccff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95" name=""/>
          <p:cNvSpPr txBox="1"/>
          <p:nvPr/>
        </p:nvSpPr>
        <p:spPr>
          <a:xfrm>
            <a:off x="179280" y="1198440"/>
            <a:ext cx="8713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6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l Consiglio di orientamento scolastico: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ocus su alcune criticità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16000" y="2565360"/>
            <a:ext cx="7345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INCONTRO PER DOCEN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Lunedì 10 ottobre 2011 ore 14.30 – 16.30 circ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resso Biblioteca ISIS Ripamonti Via belvedere COM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132000" y="44280"/>
            <a:ext cx="3168720" cy="648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835280" y="4221000"/>
            <a:ext cx="716436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              </a:t>
            </a: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Relatrice:</a:t>
            </a:r>
            <a:r>
              <a:rPr b="0" lang="it-IT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Dott.ssa CAMILLA MARTI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Comic Sans MS"/>
              </a:rPr>
              <a:t>Temi trattat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- Criteri per la formulazione del C.O.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- La comunicazione del C.O. ai genitori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- La comunicazione del C.O. allo studente</a:t>
            </a:r>
            <a:br>
              <a:rPr sz="1800"/>
            </a:br>
            <a:r>
              <a:rPr b="1" lang="it-IT" sz="1800" spc="-1" strike="noStrike">
                <a:solidFill>
                  <a:srgbClr val="333399"/>
                </a:solidFill>
                <a:latin typeface="Tahoma"/>
              </a:rPr>
              <a:t>- Il C.O. come elemento di un percorso articol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Uff. autonomia D. Diacc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2445-6F88-4AC7-AE39-BACAE59014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9:12:00Z</dcterms:created>
  <dc:creator>Customer</dc:creator>
  <dc:description/>
  <dc:language>en-US</dc:language>
  <cp:lastModifiedBy>M.I.U.R.</cp:lastModifiedBy>
  <dcterms:modified xsi:type="dcterms:W3CDTF">2011-10-03T11:10:10Z</dcterms:modified>
  <cp:revision>140</cp:revision>
  <dc:subject/>
  <dc:title>Diapositiva 1</dc:title>
</cp:coreProperties>
</file>